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C12-56ED-47F6-8A24-85369BEC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B0A-04F7-4836-8DE4-64B529E5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4E0-E616-4974-8678-228366A6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353-B3A5-4EA2-8640-8555B6D1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A81-4D3C-4FB4-8868-B7D54C00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7B2-C9AD-4CFC-99DE-976332FA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9EF-69AB-471E-9104-060C2F28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167-7F8B-4BCF-812B-F0320D60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395-BA25-4733-B9D1-47839E03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404-4AFD-4455-B5E9-9762541A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3EA-FD03-4D10-BACE-4E9730F5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0B2-C2B1-4D0B-A817-9D87FC96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33BE-D9B5-45D8-9EEC-203B577FA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tainjesus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876920" cy="9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يسوع قال لي أنا حارسك مالك خايف من إيه؟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حِملَك وأخدته عنَّك مالك تعبان من إيه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خوفك دا عدم إيمان تعبك ده مالوهش مكان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سلَّمت الدفَّة لمين يحدفها شمال ويمين؟ ليه تايه يا مسكين؟  أنا لك ملجأ ومُع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ليه تعيش في الدنيا شريد وانت ليك كلِّ المواعيد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5524112qsHxQg_th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0" y="3049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0"/>
            <a:ext cx="457200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في نهاية ألمي وتعبي قلتلهم  أنا عطش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في عطشي وظمأي رويتك وبروحي بقيت مل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تصرخ دايماً وحزين وكأنه مالكش مُعين</a:t>
            </a:r>
            <a:r>
              <a:rPr b="0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429000"/>
            <a:ext cx="891540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سلّمت الدفَّة لمين يحدفها شمال ويمين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يه تايه يا مسكين؟  أنا لك ملجأ ومُع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يه تعيش في عطش وف جوع  ليه عينيك مليانه دم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4916690EgLuIu_ph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5334120" cy="82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نكَّست عشانك راسي إكليلي كان أشو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وفي موتي وجدت حياتك بعد مازالت خطاي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أنا شايفك زعلان كان أملي تكون فرح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سلّمت الدفَّة لمين يحدفها شمال ويمين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تايه يا مسكين؟  أنا لك ملجأ ومُع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تعيش عبد ومملوك وانت أبوك ملك الملو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32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0:28:10Z</dcterms:created>
  <dc:creator>SUZANNE.MD</dc:creator>
  <dc:description/>
  <dc:language>en-US</dc:language>
  <cp:lastModifiedBy>USER</cp:lastModifiedBy>
  <dcterms:modified xsi:type="dcterms:W3CDTF">2003-02-17T14:37:45Z</dcterms:modified>
  <cp:revision>2</cp:revision>
  <dc:subject/>
  <dc:title>PowerPoint Presentation</dc:title>
</cp:coreProperties>
</file>